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D03F-D7A2-48DD-A975-347BE21CB96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15F5-EDC9-49E5-A78E-FAE42155F71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6A94-426C-4DCB-BC45-3BE3C6B8882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5AF2-79CA-4A4D-B935-2258E2E0ACD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3BC5-E252-464B-A61C-07B2E7854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811E-0B7B-4475-A00B-ABDE085E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02AE-3304-4E67-B183-3F6B01B91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8FC2-91BB-4040-B392-2349524A3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71C6-87FF-4FBA-912C-ADC2DFCF1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ED42-44BE-4AE9-B9DE-200A8EDB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146E-0E4A-4B21-8C9D-207682AA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AC2D-5E3D-458C-A866-27E46D36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B144-03D4-4E6A-9029-0F535697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87C4-CE2C-46B2-9609-4B86FCE5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3CFF-74F8-405F-B17A-E6E1BE6C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1D36-5357-4CB9-8CCE-E8494435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6064-419A-44F8-894B-3B2441DB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7F89-D701-429E-92B5-C357BADB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464C-A17E-4D31-B3E3-6ED03909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EF03-AD1A-4659-8F15-5EC43C7BB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423E-5AC1-4212-93D0-A5B42547B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8F688E-EEF8-4529-8D3B-E315BC278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6D4907-485E-456A-B743-431832BF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AF872D-8B65-4C25-B105-2AF3C15D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93DC66-B5C5-4CA8-9B48-C25D4149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68734B-4B80-481E-B055-63A0BFE0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ACFE-E5E4-4929-A44F-DADC91C5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8863FE-5773-4965-8BD6-541E8DF8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4A0EBB-27D4-469E-80F6-29F30B1E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D0B47A-3504-47A5-A880-CC5295E0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A3A9DF-B199-477D-8C65-ABB5FECA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111CB0-9ED9-41E0-9ECE-04C988DC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6474C3-18C0-4D5B-A5F9-63AA6B275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0DE55F-1095-42BC-96D1-517E694BF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71DF3-1B6B-4D86-A3C0-C7AFB69F5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E7DE5-956F-4234-9E9C-90921712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4DA5F-6234-4E09-B534-BF8CBE50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4740-4F14-4DDD-87E2-E6D8986A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3EFE9-F32E-4D12-8DAB-CF1C25A0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DA029-79FE-4BF2-BB53-8CEB4BD8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35456-4442-40D8-A12C-E4877591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C2F01-C786-4DFD-8461-C3B77821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3E210-99A2-4103-9325-5BF22B53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E2EA5-877B-4F1D-B55A-273689D0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40A5C-63E5-4B01-8384-59ADA8A0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E15C5-A9CA-42BF-927B-C6044C8B2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4507A-33C2-484E-9D49-5637E689D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328A-E7E9-45B2-97BA-09CD1A4B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B31A-1F37-4E1C-A1C4-E912FE6E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04B7-CD15-45F5-B2CF-21958CD9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5E68-8A4C-4FA9-A143-017A8D3C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5355-2ABB-4BFF-A519-9A84BD2F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0BEE-D72D-49AE-9093-AB4AAD2217EB}" type="slidenum">
              <a:rPr b="0" lang="fr-F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91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92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95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96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22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Rectangle 124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Rectangle 125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BE15-1180-405B-87D4-E25FA0ECBEA1}" type="slidenum">
              <a:rPr b="0" lang="fr-F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5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6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9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0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206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89BF-F1D1-46F7-A30A-80C356236747}" type="slidenum">
              <a:rPr b="0" lang="fr-F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9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0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3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4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290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2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3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81CE-9A6B-4E66-90B9-9A5589B1B6ED}" type="slidenum">
              <a:rPr b="0" lang="fr-F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CAT – Level 2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Unité 3 – Nous sommes allés en provence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24242"/>
                </a:solidFill>
                <a:latin typeface="Century Gothic"/>
              </a:rPr>
              <a:t>Rencontrons …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24242"/>
                </a:solidFill>
                <a:latin typeface="Century Gothic"/>
              </a:rPr>
              <a:t>Dr. &amp; Mrs. Vandertrampp!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4c600"/>
                </a:solidFill>
                <a:latin typeface="Century Gothic"/>
              </a:rPr>
              <a:t>Qui sont Dr. &amp; Mrs. Vandertrampp?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Picture 5" descr="jim_backus3"/>
          <p:cNvPicPr/>
          <p:nvPr/>
        </p:nvPicPr>
        <p:blipFill>
          <a:blip r:embed="rId1"/>
          <a:stretch/>
        </p:blipFill>
        <p:spPr>
          <a:xfrm>
            <a:off x="299880" y="1938240"/>
            <a:ext cx="770112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4c600"/>
                </a:solidFill>
                <a:latin typeface="Century Gothic"/>
              </a:rPr>
              <a:t>Qui sont Dr. &amp; Mrs. Vandertrampp?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e3d2d"/>
                </a:solidFill>
                <a:latin typeface="Century Gothic"/>
              </a:rPr>
              <a:t>Non bien sûr!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e3d2d"/>
                </a:solidFill>
                <a:latin typeface="Century Gothic"/>
              </a:rPr>
              <a:t>Ce sont les Howell de l’île de Gilligan!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e3d2d"/>
                </a:solidFill>
                <a:latin typeface="Century Gothic"/>
              </a:rPr>
              <a:t>Voici les VRAIS Dr. &amp; Mrs. Vandertrampp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c600"/>
                </a:solidFill>
                <a:latin typeface="Century Gothic"/>
              </a:rPr>
              <a:t>Qui sont Dr. &amp; Mrs. Vandertrampp?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685440" y="1980720"/>
            <a:ext cx="3962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e3d2d"/>
                </a:solidFill>
                <a:latin typeface="Century Gothic"/>
              </a:rPr>
              <a:t>Ils ont passé une vie très chargée !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e3d2d"/>
                </a:solidFill>
                <a:latin typeface="Century Gothic"/>
              </a:rPr>
              <a:t>Ils ont fait beaucoup dans leur longue vie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e3d2d"/>
                </a:solidFill>
                <a:latin typeface="Century Gothic"/>
              </a:rPr>
              <a:t>Qu’est-ce qu’ils ont fait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0" name="Picture 39" descr="old-couple"/>
          <p:cNvPicPr/>
          <p:nvPr/>
        </p:nvPicPr>
        <p:blipFill>
          <a:blip r:embed="rId1"/>
          <a:stretch/>
        </p:blipFill>
        <p:spPr>
          <a:xfrm>
            <a:off x="4800600" y="2362320"/>
            <a:ext cx="434340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4c600"/>
                </a:solidFill>
                <a:latin typeface="Century Gothic"/>
              </a:rPr>
              <a:t>Qui sont Dr. &amp; Mrs. Vandertrampp?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304920" y="1752480"/>
            <a:ext cx="68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2666880" y="1752480"/>
            <a:ext cx="68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2895480" y="17524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U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09480" y="175248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ENU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609480" y="223992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ENU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685800" y="41911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TÉ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609480" y="46782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STÉ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609480" y="51642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RTI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0" name="Text Box 11"/>
          <p:cNvSpPr/>
          <p:nvPr/>
        </p:nvSpPr>
        <p:spPr>
          <a:xfrm>
            <a:off x="2895480" y="2111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LÉ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1" name="Text Box 12"/>
          <p:cNvSpPr/>
          <p:nvPr/>
        </p:nvSpPr>
        <p:spPr>
          <a:xfrm>
            <a:off x="2917800" y="248616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É (NAÎTRE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2" name="Text Box 13"/>
          <p:cNvSpPr/>
          <p:nvPr/>
        </p:nvSpPr>
        <p:spPr>
          <a:xfrm>
            <a:off x="2917800" y="2851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CENDU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2895480" y="321624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TRÉ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2908440" y="3583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TRÉ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2881440" y="39481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MBÉ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2898720" y="431316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TOURNÉ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2895480" y="46800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RIVÉ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2971800" y="504504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T (MOURIR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2895480" y="54100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TI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0" name="Text Box 21"/>
          <p:cNvSpPr/>
          <p:nvPr/>
        </p:nvSpPr>
        <p:spPr>
          <a:xfrm>
            <a:off x="2895480" y="57769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É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71" name="Picture 22" descr="old-couple"/>
          <p:cNvPicPr/>
          <p:nvPr/>
        </p:nvPicPr>
        <p:blipFill>
          <a:blip r:embed="rId1"/>
          <a:stretch/>
        </p:blipFill>
        <p:spPr>
          <a:xfrm>
            <a:off x="4800600" y="2362320"/>
            <a:ext cx="434340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Windows User</cp:lastModifiedBy>
  <dcterms:modified xsi:type="dcterms:W3CDTF">2013-12-11T13:08:40Z</dcterms:modified>
  <cp:revision>41</cp:revision>
  <dc:subject/>
  <dc:title>Allez, viens! – Level 2</dc:title>
</cp:coreProperties>
</file>